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67ED9-666E-47D1-8D2E-3501F8F4355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CE739-63F3-49A4-AFF9-84AD71D12F1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796-37AC-4614-BADB-2921D1D0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5E4-F8B4-43C7-8744-8D7FC679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857-FAED-45AF-A3FF-9BDE9F96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EA2-904F-47F0-BF29-23B8EE80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5F2-BEBF-4BD3-A642-C9D3C55D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E4B-1E7C-4139-892D-5DF1E9AF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6FD-7764-46EC-AB35-C5952FC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9E1-ABFA-4ECE-A74A-AC84F3FF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010-909A-4CA2-8F57-341941DF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B4F-81E1-47D7-A55E-C884BF8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14B-74BB-4E94-B40E-AF2C963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6DA-A6B4-429C-B149-4EB90A2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23355-547A-4287-8378-917F05B591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rand_ppt_back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719280" y="1819440"/>
            <a:ext cx="804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VERSITY WEB NETWORK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enda for 17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ation from the new Head of Creative (David Milligan-Croft) – 15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sity marketing web update (Andy Simmons) – 1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pdates from Faculties and PSS IT– 2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exercise – 3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tion to PPC/Retargeting  (MediaCom)  –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tion to Communigator (University’s Business Engagement support office) -  10 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51:07Z</dcterms:created>
  <dc:creator>Russell Hart</dc:creator>
  <dc:description/>
  <dc:language>en-US</dc:language>
  <cp:lastModifiedBy>mjrssfc</cp:lastModifiedBy>
  <dcterms:modified xsi:type="dcterms:W3CDTF">2013-04-17T15:04:11Z</dcterms:modified>
  <cp:revision>72</cp:revision>
  <dc:subject/>
  <dc:title>PowerPoint Presentation</dc:title>
</cp:coreProperties>
</file>